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5EBF-3236-41DD-8A54-1D3D82282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4F7C-594D-40EC-B50B-07D4F2CB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A9AB-446F-471F-8F94-397EB1F4B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DC68-9593-41DE-B31A-6D24ED9E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6B2D-929B-4408-B8B4-C679334F0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9CF4-F371-47DC-90D0-8CCCE2F9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22B9-90B1-4549-A79A-01EF0E66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3836-B28E-432E-B1F4-BAA69F21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97B4-5762-4730-9E61-893BC5B0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42D3-F5B0-4EC2-93FE-E362BB31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FFAE-0E9E-4AE0-AC64-5C9CCCFE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CAC2-C4EB-480D-88E5-53DBD217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6728-41BB-4F14-AD3C-8F4E867A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D04F-571F-4BBF-A6B7-9F78B02A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62F3-ACF9-4E21-9F61-78EFE34C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AC54-8D21-4003-89EE-A671ADDF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51FA-53E4-451D-8238-1E98755CE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F18A-AC64-4221-84AE-336177E5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716A-A7CC-4269-8644-1BD2849A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F29C-7824-464B-A582-DA5D9569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C2AD-A33A-4591-942F-DDC6FF4B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59DB-EDDF-4124-B7E5-F55748EE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4B03-C310-4E11-96C7-C9DCF893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AA6D-C02B-4E87-AEEF-3CF97AD0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652C-D16A-4C57-8C96-5202EED994CC}" type="slidenum">
              <a:rPr b="0" lang="ro-RO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E9A8-A9AC-46BE-BD54-A11B60CAABA5}" type="slidenum">
              <a:rPr b="0" lang="ro-RO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ula.traduccion@uah.e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slideshare.net/makarenaaaaa/macarenaortizsaulbloqueii-presentation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Comic Sans MS"/>
              </a:rPr>
              <a:t>Recursos generales del traducto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Bianca Vitalar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Universidad de Alcalá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aula.traduccion@uah.es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CORPUS idiomas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4400" spc="-1" strike="noStrike">
                <a:solidFill>
                  <a:srgbClr val="000000"/>
                </a:solidFill>
                <a:latin typeface="Comic Sans MS"/>
              </a:rPr>
              <a:t>Bilingüe/Multilingü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491920"/>
            <a:ext cx="76960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Colecciones de text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en varios idioma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Función: servir para estudios cuantitativos o estadístico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Criterios de selección muy diverso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CORP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Elaborado por el traducto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Proyecto concreto de traducci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No son de acceso públic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Información recogida en Internet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Información sobre términos y expresiones concreta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CORPORA son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Estables y aceptados por la comunidad investigador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Elaborados según criterios estricto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Alto grado de fiabilida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Gran cantidad de informació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Incluyen información lingüística (corpus anotados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B NC (http:/ www.natcorp.ox.ac.uk/ / 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Comic Sans MS"/>
              </a:rPr>
              <a:t>C. Herramientas CAT/TA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Años 80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Necesidad de diseñar sistemas de traducción, para reaprovechar todo el text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Ahorro temporal y económic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Comic Sans MS"/>
              </a:rPr>
              <a:t>Componentes</a:t>
            </a:r>
            <a:br>
              <a:rPr sz="4400"/>
            </a:b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Comic Sans MS"/>
              </a:rPr>
              <a:t>fundamenta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Memoria de traducció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Editor de tex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Sistemas de gestión de terminologí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Funciones de control de calida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Memorias de traducci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Herramientas que permiten al traductor  reaprovechar las traduccion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El texto traducido se almacena e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bases de dato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sistemas de material de referencia que gestionan segmentos de texto alineados (original y traducción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El texto se puede recuperar si durante la traducción aparecen segmentos idénticos o con cierto porcentaje de similitu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Comic Sans MS"/>
              </a:rPr>
              <a:t>D. Otros recurs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La Web: Internet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 es fuente todo lo que se cuelga en la 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gran cantidad de información, calidad deja que desea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Comic Sans MS"/>
              </a:rPr>
              <a:t>!!!Tener en cuenta factores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- Autorí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Caducida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Motores de búsqueda: utilizar buscadores que no primen tanto la cantidad de páginas registradas como la calida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Información-conocimien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Ejemplo de fuent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Medios de comunicació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- El Paí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digit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E-periodist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Hemeroteca de 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El Mund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Revist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Obras de referenc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Portales especializ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503000" y="2142720"/>
            <a:ext cx="6195960" cy="29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a Presentación sobre corpus basada en la de 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Macaren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Ortiz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Sau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BloqueII </a:t>
            </a:r>
            <a:r>
              <a:rPr b="0" lang="ro-RO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www.slideshare.net/makarenaaaaa/macarenaortizsaulbloqueii-presentation/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66ff"/>
                </a:solidFill>
                <a:latin typeface="Comic Sans MS"/>
              </a:rPr>
              <a:t>Herramientas de ayuda al traductor</a:t>
            </a:r>
            <a:r>
              <a:rPr b="0" lang="es-ES_tradnl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. Recursos lexicográficos: versión sintétic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inición y equivalencia fuera de contex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. Corpus: versión analít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text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. Herramientas CAT/TAO: almacenami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 . Otros recurs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8218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_tradnl" sz="4000" spc="-1" strike="noStrike">
                <a:solidFill>
                  <a:srgbClr val="0066ff"/>
                </a:solidFill>
                <a:latin typeface="Comic Sans MS"/>
              </a:rPr>
              <a:t>Tipos de recursos</a:t>
            </a:r>
            <a:br>
              <a:rPr sz="4000"/>
            </a:br>
            <a:r>
              <a:rPr b="0" lang="es-ES_tradnl" sz="4000" spc="-1" strike="noStrike">
                <a:solidFill>
                  <a:srgbClr val="0066ff"/>
                </a:solidFill>
                <a:latin typeface="Comic Sans MS"/>
              </a:rPr>
              <a:t>A. Lexicográfico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2549520"/>
            <a:ext cx="3776760" cy="29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enera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nolingü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Bilingü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ultilingü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05480" y="2491920"/>
            <a:ext cx="377640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2. Especializa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nolingü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Bilingü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ultilingü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Comic Sans MS"/>
              </a:rPr>
              <a:t>Tipo de recursos</a:t>
            </a:r>
            <a:br>
              <a:rPr sz="4400"/>
            </a:br>
            <a:r>
              <a:rPr b="0" lang="es-ES_tradnl" sz="4400" spc="-1" strike="noStrike">
                <a:solidFill>
                  <a:srgbClr val="0066ff"/>
                </a:solidFill>
                <a:latin typeface="Comic Sans MS"/>
              </a:rPr>
              <a:t>B. Corp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084400"/>
            <a:ext cx="7696080" cy="34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Conjunto estructurado y documentado de texto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Ejemplos reales de uso de la lengu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Lingüística del corpus: estudia la lengua a través de estas muestra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Tipos de corp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Monolingü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Bilingüe/Multilingüe: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compar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parale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a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line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direccional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idioma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omic Sans MS"/>
              </a:rPr>
              <a:t>CORPUS Monolingü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Textos de una sola lengu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Misma temátic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No son traduccion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Objetivo: dar cuenta de una lengua o variedad lingüístic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omic Sans MS"/>
              </a:rPr>
              <a:t>CORPUS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comparable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4400" spc="-1" strike="noStrike">
                <a:solidFill>
                  <a:srgbClr val="000000"/>
                </a:solidFill>
                <a:latin typeface="Comic Sans MS"/>
              </a:rPr>
              <a:t>Bilingüe/Multilingü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084400"/>
            <a:ext cx="7696080" cy="34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Textos en más de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una lengu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Misma temátic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Características similar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Es posible establecer comparaciones interlingüística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CORPUS paralelo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4400" spc="-1" strike="noStrike">
                <a:solidFill>
                  <a:srgbClr val="000000"/>
                </a:solidFill>
                <a:latin typeface="Comic Sans MS"/>
              </a:rPr>
              <a:t>Bilingüe/Multilingü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204640"/>
            <a:ext cx="7696080" cy="32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Textos en más de una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lengua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El mismo texto traducido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Útiles en la traducción automática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Entornos: la ONU, la OTAN, la UE o Canadá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ORIGEN: Edad Media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“ biblias políglotas” , contenían textos uno al lado de otro en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hebreo, latín y griego, y a veces también versiones vernácula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El caso más conocido: </a:t>
            </a:r>
            <a:r>
              <a:rPr b="0" i="1" lang="ro-RO" sz="1800" spc="-1" strike="noStrike">
                <a:solidFill>
                  <a:srgbClr val="000000"/>
                </a:solidFill>
                <a:latin typeface="Comic Sans MS"/>
              </a:rPr>
              <a:t>Hansard Corpus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actas del parlamento canadiense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publicadas en francés e inglé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CORPUS alineado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4400" spc="-1" strike="noStrike">
                <a:solidFill>
                  <a:srgbClr val="000000"/>
                </a:solidFill>
                <a:latin typeface="Comic Sans MS"/>
              </a:rPr>
              <a:t>Bilingüe/Multilingü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Textos está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dispuestos unos al lado de otros en párrafos o fras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Los pares de frases están identificados estableciendo las correspondencia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Más fácil extraer las equivalencias de traducción: elementos que son traducciones mutua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La alineación de oraciones y palabras se puede conseguir automática o semiautomáticamente con un alto grado de exactitu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08:59:14Z</dcterms:created>
  <dc:creator>LivBia</dc:creator>
  <dc:description/>
  <dc:language>en-US</dc:language>
  <cp:lastModifiedBy>LivBia</cp:lastModifiedBy>
  <dcterms:modified xsi:type="dcterms:W3CDTF">2008-11-06T10:08:09Z</dcterms:modified>
  <cp:revision>4</cp:revision>
  <dc:subject/>
  <dc:title>Recursos generales del traductor</dc:title>
</cp:coreProperties>
</file>